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888-82E8-4853-8A44-F3902E6D943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811F-1769-4B67-820A-F3B060435AA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A34-9490-4423-9113-5E7102573DC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40C-84BA-4652-93B4-C61A23444C7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38A-C033-4A3A-A036-73DF39DA1F1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2F6-51A1-47FD-90A0-44D57FD7979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4A5A-2AFA-437B-9255-4C861F2AF3B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4DEB-A3D4-4278-BC7A-1C6A54EADD5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B87-F551-4040-B1C9-DBB65F3AE3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8A5-9CFB-4328-8BCB-5E36A6CBC8D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A82-7832-4ACD-BF9C-DDD2BE3D57E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46B3-AF60-43B9-A430-D95296BFA8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080-C0E3-4E4E-8874-7C2A1B865D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55E3-714A-4A9C-A734-95B9A7781B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0CE-AB01-4331-B900-FFADFB4C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B1F-645B-41FB-AA3C-5EBFA11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D08-6E68-498F-A7D5-2193FAE8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0AD-2951-4CA6-AA75-CF987E46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369-01B1-41EF-9462-A8DF13B1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FF4-F995-4450-91EB-F664E70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48D-68C6-4A70-927A-879231F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A2B-09FC-4961-8330-BAB3383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629-D874-4F9D-A5DC-1A14679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0ED-EF65-400B-BA62-F283A2D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099-D274-4097-B890-B379934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421-4A1B-44A8-9247-1913756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805-11D5-4D71-9EC0-D45C1195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j8TGhcCnxs&amp;feature=rela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ing Ligh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10-31T04:41:34Z</dcterms:modified>
  <cp:revision>87</cp:revision>
  <dc:subject/>
  <dc:title>Slide 1</dc:title>
</cp:coreProperties>
</file>